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C618-6E48-47EA-B8EF-C557225E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7BA0-62DD-4BB1-8863-EC8A7D82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6EF8-D25B-4D52-9E2B-A82B5624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41D2-08EC-47AE-B6F0-2CB0C40D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613B-B180-4D85-8E55-DA629F7E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53D7-4906-4CF1-8A1C-9848D178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D178-612C-4F51-ABA6-BB17ED01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370B-BDDB-409B-AFAA-BC3A91E1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EE25-B612-4333-97B7-E72BEE25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88A4-1DFF-4616-8628-9DF9D482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9414-5095-421A-88E6-8F740328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193C-B50E-4F68-AEFE-9DB89210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7A6D-B579-4B4A-92AA-405B0879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72A5-507A-4193-AB89-43EFD965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02C9-42CB-47A0-B09D-40B71DA3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837E-AC18-4B6F-957D-12D38762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5501-C2B6-42E1-BE20-E635869F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312B-0DEB-44E6-901D-5646E482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65CC-E91F-4688-A14F-C79311C9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A79B-4634-4883-8D33-E70B57A0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8C41-201D-4127-A51F-B3B9C158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4E6A-C127-4E28-B8E5-CB0AF460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5E65-1CB7-4111-BD27-FFF01341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5879-0AA1-4C04-955D-8A05DF38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D4AB-D209-4C2A-AD12-C821D900648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45F8-FE0D-4D00-BA3F-687FBC5C4E9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75;&#1080;&#1087;&#1077;&#1088;&#1089;&#1089;&#1099;&#1083;&#1082;&#1072;/&#1087;&#1077;&#1076;.&#1086;&#1094;&#1077;&#1085;&#1080;&#1074;&#1072;&#1085;&#1080;&#1077;.ppt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75;&#1080;&#1087;&#1077;&#1088;&#1089;&#1089;&#1099;&#1083;&#1082;&#1072;/&#1047;&#1085;&#1072;&#1082;&#1086;&#1084;&#1089;&#1090;&#1074;&#1086;%20&#1089;%20&#1095;&#1080;&#1089;&#1083;&#1072;&#1084;&#1080;%20&#1074;%20&#1087;&#1088;&#1077;&#1076;&#1077;&#1083;&#1072;&#1093;%2010.doc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75;&#1080;&#1087;&#1077;&#1088;&#1089;&#1089;&#1099;&#1083;&#1082;&#1072;/&#1048;&#1079;&#1091;&#1095;&#1077;&#1085;&#1080;&#1077;%20&#1095;&#1080;&#1089;&#1077;&#1083;%20&#1074;%20&#1087;&#1088;&#1077;&#1076;&#1077;&#1083;&#1072;&#1093;%2010.doc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75;&#1080;&#1087;&#1077;&#1088;&#1089;&#1089;&#1099;&#1083;&#1082;&#1072;/&#1047;&#1085;&#1072;&#1082;&#1086;&#1084;&#1089;&#1090;&#1074;&#1086;%20&#1076;&#1077;&#1090;&#1077;&#1081;%20&#1089;%20&#1094;&#1080;&#1092;&#1088;&#1072;&#1084;&#1080;.doc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75;&#1080;&#1087;&#1077;&#1088;&#1089;&#1089;&#1099;&#1083;&#1082;&#1072;/&#1072;&#1085;&#1072;&#1083;&#1080;&#1079;%20&#1087;&#1088;&#1086;&#1075;&#1088;&#1072;&#1084;&#1084;.doc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75;&#1080;&#1087;&#1077;&#1088;&#1089;&#1089;&#1099;&#1083;&#1082;&#1072;/&#1079;&#1072;&#1074;&#1099;&#1096;.&#1090;&#1088;&#1077;&#1073;&#1086;&#1074;&#1072;&#1085;&#1080;&#1103;.doc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9640" y="3927600"/>
            <a:ext cx="3311640" cy="2557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7486560" cy="29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ФОРМИРОВАНИЕ ЭЛЕМЕНТАРНЫХ МАТЕМАТИЧЕСКИХ ПРЕДСТАВЛЕНИЙ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мёнова М.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доцент КД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У ДПО ЧИППКР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нд.пед.нау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достаточная, а в ряде случаев недопустимо низкая математическая корректность содержания делает невозможным развивающее обуч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сутствие, нечеткое выделение показателей и критериев не позволяет определить уровень математической подготовки детей к обучению в школ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ализация программного содержания не решает задачи обеспечения преемственности в математическом образовании дошкольников и младших школь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Выводы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грузка программы дошкольного образования математике, приводят к неуспешности и эмоциональному неблагополучию, отрицательно сказывается на психическом здоровье детей и мотивационной сфере, гася желание учиться уже в период дошкольного обуч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Выводы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ализация сложного содержания, заимствованного из школьной программы при методической и технологической неразработанности вызывает трудности у педагогов ДОУ, т.к. не соответствует их профессиональным возможностя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сширение объема содержания математического образования дошкольников требует разработки методики развивающего обучения дошкольников и обучения этой методике педагогов ДО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стоящее время нет психологически обоснованных критериев определения содержания, влияние изучения которого на развитие ребенка дошкольного возраста научно доказа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Отсутствует единый подход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в разработке показателей уровня математической подготовленности дошкольника к школьному обуче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Обязательный минимум содержания основных образовательных программ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Числа, цифры, вычисления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Число как результат счета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и как результат измерения длины, веса, вре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оличественный и порядковый счет предме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оличественные отношения в натуральном ряду чисел. Место числа среди других чисел натурального ря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Состав чисел из единиц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. Состав чисел из двух меньших чисе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Целые и дробные числа. Положительные и отрицатель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Цифры от 0 до 9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, монеты, циферблат час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Сложение и вычитание чисел (приемы присчитывания и отсчитывания по одному при решении арифметических задач и примеров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940360" y="4005360"/>
            <a:ext cx="247356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«Концепция непрерывного образования детей дошкольного и младшего школьного возраста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оритетные задачи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беспечение эмоционального благополучия каждого ребенка, развитие его положительного самоощущ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витие инициативности, любознательности, произвольности, способности к творческому самовыражению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Сравнение и измерение величин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равнение предметов по длине, ширине, высоте, весу, объему. Построение сериационного ряда в возрастающем и убывающем порядке по величине (до 10 предметов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мерение линейных величин, объема, веса условной мерк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Геометрические фигуры и тел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руг, овал, треугольник, квадрат, прямоугольник, шар, куб, цилиндр, призма, конус. Углы, стороны, вершины геометрических фигур. Классификация геометрических фигур. Обобщения «четырехугольник», «многоугольник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ямая, кривая, замкнутая ли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156360" y="4143240"/>
            <a:ext cx="1871280" cy="1230120"/>
            <a:chOff x="6156360" y="4143240"/>
            <a:chExt cx="1871280" cy="1230120"/>
          </a:xfrm>
        </p:grpSpPr>
        <p:sp>
          <p:nvSpPr>
            <p:cNvPr id="128" name=""/>
            <p:cNvSpPr/>
            <p:nvPr/>
          </p:nvSpPr>
          <p:spPr>
            <a:xfrm rot="5191800">
              <a:off x="6782400" y="4247280"/>
              <a:ext cx="421920" cy="22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9" name=""/>
            <p:cNvGraphicFramePr/>
            <p:nvPr/>
          </p:nvGraphicFramePr>
          <p:xfrm>
            <a:off x="6156360" y="4252680"/>
            <a:ext cx="1871280" cy="1120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156360" y="4252680"/>
                      <a:ext cx="1871280" cy="11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7329960" y="4358160"/>
              <a:ext cx="4064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Временные и пространственные отнош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ношения «вчера», «сегодня», «завтра». Сутки (части суток), неделя, дни недели), месяц (месяцы года), час, минута (1; 5 минут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33"/>
                </a:solidFill>
                <a:latin typeface="Garamond"/>
              </a:rPr>
              <a:t>Временные и пространственные отношения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риентировка «на себе», «от себя». Определение своего местонахождения среди окружающих объектов, смена направления движения, изменение отношений между предметам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делирование пространственных отношений между предметами (план). Ориентировка на плоскости (лист тетради в клетку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Развитие логики мышле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ношение род, вид, объединение, дополнение, пересечение. Операции классификации и сериации. Элементы логики высказываний «все», «некоторые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Требования к уровню подготовки выпускник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Знает и понима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следовательность чисел натурального ряда (в пределах 10) и отношения между ними; способ образования числа. Знаки +, -, =, &lt;, &gt;. Действия сложения и вычита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Знает и понима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ратную зависимость между результатом измерения и величиной мерки; количеством частей и величиной каждой части одного целого. Названия частей суток, дней недели, месяцев, времен года. Длительность 1,5 минут, 1 ча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ет и понима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ерации классификации и сериации, отношения (род, вид), объединение, дополнение, пересечение множеств; элементы логики высказываний («все», «некоторые»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Уме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пределять количество и порядковое место предметов в ряду других. Считать, измерять, делить целое на части, сравнивать, образовывать числа, уравнивать множества по числу, находить предыдущее и последующее число, выражать в речи отношения между числам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различных знаний об окружающем мире, стимулирование коммуникативной, познавательной, игровой и др. активности детей в различных видах деятельности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компетентности в сфере отношений к миру, к людям, к се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включение детей в различные формы сотрудничества (со взрослыми и детьми разного возраст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идеть зависимость результатов деления от величины целого и количества частей (при делении на 2, 4 части); моделировать отношения «часть-целое»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бстрагировать число от качественных и пространственных признаков. Разлагать число на единицы и на два меньших числа (в пределах 10). Производить вычисления при решении задач и примеров (в пределах 10). Делить множества на равные групп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ставлять и решать простые арифметические задачи в одно действ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змерять величину предметов условной мерк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ражать в речи результаты сравнения и измерения величины предметов. Доказывать и обосновывать способы и результаты сравнения, измерения. Обследовать и сравнивать геометрические фигуры, предметы по форме; определять и отражать в речи основания классификации, зарисовывать геометрические фиг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делять углы, стороны, вершины геометрических фигур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ть основные пространственные направления: вверху-внизу, впереди-сзади, слева-справа, предлоги «в», «над», «под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змерять время с использованием песочных часов, циферблата, календаря; ориентироваться в окружающей среде, выражать в речи временные и пространственные отношен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полнять действия по знаковым обозначениям, определять последовательность действий; пользоваться простыми алгоритмами. Отражать в речи связи и зависимости последовательных действ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итература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ошистая А.В. Обучение математике в ДОУ: Методическое пособие. – М.: Айрис-пресс, 2005. – 320 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нгер Л.А. и др. Игры и упражнения по развитию умственных способностей у детей дошкольного возраста. – М., 198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ушина А.М. Занятия счёту в детском саду – М., 196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лина В.В.Весёлая математика. – М., 199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ёмина, Е.С.Развитие элементарных математических представлений. Анализ программ дошкольного образования. – М.: ТЦ Сфера, 2009. – 128 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пина, Г.А. Математическое развитие дошкольников: Современные направления. – М.: ТЦ Сфера, 2008. – 128 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ьяченко О.М., Веракса Н.Е. Чего на свете не бывает? – М., 199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рофеева Т.И., Павлова Л.Н., Новикова В.П. Математика для дошкольников. – М., 199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хайлова З.А. Игровые задачи для дошкольников. – СПб., 199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итин Б.П. Ступеньки творчества, или Развивающие игры. – М., 199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одержание математического образова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представлений о множестве и натуральном ряде чисел (до 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учение счету, вычислительной деятельности при решении задач в одно действие на сложение и вычитание (в пределах 10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2114640" cy="2050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859280" y="3645000"/>
            <a:ext cx="576360" cy="5047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11640" y="4363920"/>
            <a:ext cx="576360" cy="5050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91280" y="4437000"/>
            <a:ext cx="576000" cy="5047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84360" y="4508640"/>
            <a:ext cx="1295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56360" y="436572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740720" y="3789360"/>
            <a:ext cx="100800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459640" y="3789360"/>
            <a:ext cx="177840" cy="165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172360" y="4148280"/>
            <a:ext cx="177840" cy="16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12000" y="4508640"/>
            <a:ext cx="177840" cy="16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02160" y="378936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обра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17040" y="5156280"/>
            <a:ext cx="16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дметы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мест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48160" y="5084640"/>
            <a:ext cx="19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хемати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исун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"/>
          <p:cNvSpPr/>
          <p:nvPr/>
        </p:nvSpPr>
        <p:spPr>
          <a:xfrm>
            <a:off x="7667640" y="4653000"/>
            <a:ext cx="6476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3645000"/>
            <a:ext cx="64764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804000" y="3860280"/>
            <a:ext cx="934920" cy="28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32720" y="4437000"/>
            <a:ext cx="100800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96000" y="3789360"/>
            <a:ext cx="93672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43640" y="4005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40360" y="450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826920" y="4005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7524720" y="4508640"/>
            <a:ext cx="1368360" cy="1688760"/>
            <a:chOff x="7524720" y="4508640"/>
            <a:chExt cx="1368360" cy="1688760"/>
          </a:xfrm>
        </p:grpSpPr>
        <p:sp>
          <p:nvSpPr>
            <p:cNvPr id="94" name="Pyr1"/>
            <p:cNvSpPr/>
            <p:nvPr/>
          </p:nvSpPr>
          <p:spPr>
            <a:xfrm>
              <a:off x="8057160" y="4508640"/>
              <a:ext cx="306720" cy="3744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Pyr2"/>
            <p:cNvSpPr/>
            <p:nvPr/>
          </p:nvSpPr>
          <p:spPr>
            <a:xfrm>
              <a:off x="7879680" y="4883040"/>
              <a:ext cx="660240" cy="4392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Pyr3"/>
            <p:cNvSpPr/>
            <p:nvPr/>
          </p:nvSpPr>
          <p:spPr>
            <a:xfrm>
              <a:off x="7703640" y="5322240"/>
              <a:ext cx="1011600" cy="43848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Pyr4"/>
            <p:cNvSpPr/>
            <p:nvPr/>
          </p:nvSpPr>
          <p:spPr>
            <a:xfrm>
              <a:off x="7524720" y="5758560"/>
              <a:ext cx="1368360" cy="4388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012000" y="5205240"/>
            <a:ext cx="1908000" cy="1652760"/>
            <a:chOff x="6012000" y="5205240"/>
            <a:chExt cx="1908000" cy="1652760"/>
          </a:xfrm>
        </p:grpSpPr>
        <p:sp>
          <p:nvSpPr>
            <p:cNvPr id="99" name="Puzzle3"/>
            <p:cNvSpPr/>
            <p:nvPr/>
          </p:nvSpPr>
          <p:spPr>
            <a:xfrm>
              <a:off x="6941160" y="5205240"/>
              <a:ext cx="749880" cy="87840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Puzzle2"/>
            <p:cNvSpPr/>
            <p:nvPr/>
          </p:nvSpPr>
          <p:spPr>
            <a:xfrm>
              <a:off x="6723000" y="5844960"/>
              <a:ext cx="1197000" cy="799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Puzzle4"/>
            <p:cNvSpPr/>
            <p:nvPr/>
          </p:nvSpPr>
          <p:spPr>
            <a:xfrm>
              <a:off x="6259680" y="5835240"/>
              <a:ext cx="721440" cy="10227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Puzzle1"/>
            <p:cNvSpPr/>
            <p:nvPr/>
          </p:nvSpPr>
          <p:spPr>
            <a:xfrm>
              <a:off x="6012000" y="5470920"/>
              <a:ext cx="1211760" cy="60948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учение сравнению предметов по величине, измерению условной меркой, делению на 2 и 4 равные части (моделирование отношений «часть-целое»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комство с геометрическими фигурами (круг, квадрат, треугольник, прямоугольник, четырехугольник, многоугольник, шар, куб) и определение формы предме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учение ориентировке в пространстве (на себе, от себя, от предмета) и во времени (части суток, неделя, месяц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6280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Анализ современных программ для ДОУ «Радуга», «Детство», «Развитие», «Одаренный ребенок», «Школа 2100» свидетельствует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3068640"/>
            <a:ext cx="8229600" cy="30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формированные с современных позиций цели и задачи обучения математике дошкольников зачастую носят </a:t>
            </a:r>
            <a:r>
              <a:rPr b="0" lang="en-US" sz="32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декларативный характе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т.к. методика их реализации не раскрыв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держание математического образования определено с нарушением принципа амплификации и представляет собой необоснованные </a:t>
            </a:r>
            <a:r>
              <a:rPr b="0" lang="en-US" sz="3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заимствования из программы начальной средней и даже высшей школ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граммы не имеют необходимого психологического и методического обеспечения, не реализованы на уровне технолог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3:45:08Z</dcterms:created>
  <dc:creator>raven</dc:creator>
  <dc:description/>
  <dc:language>en-US</dc:language>
  <cp:lastModifiedBy>raven</cp:lastModifiedBy>
  <dcterms:modified xsi:type="dcterms:W3CDTF">2009-11-23T08:48:42Z</dcterms:modified>
  <cp:revision>5</cp:revision>
  <dc:subject/>
  <dc:title>ФОРМИРОВАНИЕ ЭЛЕМЕНТАРНЫХ МАТЕМАТИЧЕСКИХ ПРЕДСТАВЛЕНИЙ</dc:title>
</cp:coreProperties>
</file>